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138120" y="8997840"/>
            <a:ext cx="8769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DD8F88-1395-4999-B5F6-4EB4F3BC8AAF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25080" y="717480"/>
            <a:ext cx="4700520" cy="352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25360" y="4543200"/>
            <a:ext cx="4808880" cy="425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 around the room and have everyone explain who they are and what their objectives are.  Record the objectives on flip char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31B81B4D-F76E-4EEE-9211-1ED848C1AA5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45AC3B6E-3664-4B38-BD32-FB29EB80401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5: Managing with Facts and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28520" y="1709280"/>
            <a:ext cx="737388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hours are the hours that the team spends on planned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hours do not include many unplanned but necessary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eting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coordin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vice and assista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andling mail, supplies, expenses, et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can estimate task hours, but planning the other activities is guess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measured, tracked, and managed, task hours can often be improv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6"/>
          <p:cNvSpPr/>
          <p:nvPr/>
        </p:nvSpPr>
        <p:spPr>
          <a:xfrm>
            <a:off x="1035000" y="2763720"/>
            <a:ext cx="7628040" cy="36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9" name="Picture 1027" descr=""/>
          <p:cNvPicPr/>
          <p:nvPr/>
        </p:nvPicPr>
        <p:blipFill>
          <a:blip r:embed="rId1"/>
          <a:stretch/>
        </p:blipFill>
        <p:spPr>
          <a:xfrm>
            <a:off x="1244520" y="2725560"/>
            <a:ext cx="6596280" cy="3922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roving 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720" y="1722240"/>
            <a:ext cx="7743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verage task hours per developer per week were improved from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.6 hours to 15.1 hours through quiet time, process documentation, more efficient meetings, et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Rectangle 1030"/>
          <p:cNvSpPr/>
          <p:nvPr/>
        </p:nvSpPr>
        <p:spPr>
          <a:xfrm>
            <a:off x="1047600" y="5918040"/>
            <a:ext cx="7628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AutoShape 1031"/>
          <p:cNvSpPr/>
          <p:nvPr/>
        </p:nvSpPr>
        <p:spPr>
          <a:xfrm>
            <a:off x="7851600" y="3587760"/>
            <a:ext cx="257400" cy="855720"/>
          </a:xfrm>
          <a:prstGeom prst="upArrow">
            <a:avLst>
              <a:gd name="adj1" fmla="val 50000"/>
              <a:gd name="adj2" fmla="val 8311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Text Box 1032"/>
          <p:cNvSpPr/>
          <p:nvPr/>
        </p:nvSpPr>
        <p:spPr>
          <a:xfrm>
            <a:off x="7595280" y="3073320"/>
            <a:ext cx="7956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+57%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Text Box 1033"/>
          <p:cNvSpPr/>
          <p:nvPr/>
        </p:nvSpPr>
        <p:spPr>
          <a:xfrm>
            <a:off x="1006560" y="6151680"/>
            <a:ext cx="1866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Source: Allied Signal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360" y="1707840"/>
            <a:ext cx="77310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s can only be improved by the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so, they need management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ing weekly task hours directly improves team produ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 improvement costs little or noth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17360" y="1707840"/>
            <a:ext cx="7637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ask’s earned value (EV) is the percentage of the total estimated project hours that the task is planned to t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values each task, regardless of typ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is earned when the task is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no partial cred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V credit is the same, regardless of the time the task actually tak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provides a precise way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project completion d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7280" y="1671480"/>
            <a:ext cx="76914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10-person team estimates that the first development cycle of a job will take 1,00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top-down plan breaks the work into 5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ask hour estimates for these first-cycle phases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development: 165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(HLD):  15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ailed design (DLD):  22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ation:  25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:  215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2360" y="85212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05040" y="175716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ned value (PV) is the value in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value is earned (EV) only on task comple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46080" y="1782720"/>
            <a:ext cx="7597800" cy="22942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e Cycle 1 Task Pla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Cycle 1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Task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mulative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PV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o.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P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quirement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6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HLD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5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5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LD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2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3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2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3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mplementation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5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78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5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sting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,0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2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39680" y="2025720"/>
            <a:ext cx="7837560" cy="36716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Cycle 1 Schedule 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Week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Plan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 Cumulative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PV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umulativ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o.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urs     Plan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urs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PV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2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1.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31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8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31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4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2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53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0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5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9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,12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21.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10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,28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10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82360" y="85212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2988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four weeks, the work has taken longer than expec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finished the requirements in 218 hours instead of the planned 165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took 186 hours instead of 150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tailed design is partially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 are confident they will finish it in a day or tw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estimate for project completio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3312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asks are completed, their EV is entered for the week ear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is the project likely to finish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022400" y="2638440"/>
            <a:ext cx="7099200" cy="2950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 Planning Templ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Week     Plan        Actual         Cumulative      Cumulative       Cumulativ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o.    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Hours        Actual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PV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E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26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26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0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48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74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56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30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6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9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53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6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7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8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2988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gets no credit for partially completed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s have earned 31.5 EV in 4 weeks, or 7.875 EV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100-31.5 = 68.5 EV to g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7.8754 per week, that is 8.7 more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to the 4 weeks spent so far, that is 12.7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urrent rate of progress, the team will be 5.7 weeks l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4960" y="826920"/>
            <a:ext cx="7419960" cy="563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Consider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42840" y="1657080"/>
            <a:ext cx="795672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more detailed plans, status can be more precisely measu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more precise status information, completion projections are more accu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accurate completion projections will help you manage the busi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siness Implic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42840" y="1657080"/>
            <a:ext cx="775656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PSP training, developers know how to plan, schedule, and track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use these PSP-learned methods to make detailed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s are no more than 10 task hours e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time is recorded dai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is measured wee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tell project status to within 1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regularly report their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Facts and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schedules slip a day at a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cannot precisely measure project status, you will not know where projects sta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such knowledge, you cannot address schedule problems in time to fix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SP, you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ly monitor team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ress problems i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stently meet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athering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precise project management, teams need precise proj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data must be gathered by the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so, they must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itably l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qualified TSP coach can help teams and team leaders gather and use their TSP data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ata Sensitiv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ata are sensi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 varies among individu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have off day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stakes are always embarrass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developers feel that their personal data could be used against them, they will not gather that data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ly use aggregate team data to manage TSP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management respects the developers’ data, data privacy will not be an iss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Hold Regular Project Review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iodic project reviews help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project statu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impend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ose po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superi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 reviews also help teams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ing continued management inter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inforcing your desire for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ing the team’s motiv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ing areas where the team needs hel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ward Quality 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organizations reward the firefighters, they have lots of fi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less management recognizes and rewards quality work, the developers and teams who quietly do such work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on become invisi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assed over in promo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discouraged and lea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arch for and reward those who do the highest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17720" y="17222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get the best performance, team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detaile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their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nd us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nsistently do this, they must be rationally manag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your teams to perform at their b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 that the teams gather and use their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only team-level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review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self-directed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challenging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he fa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facts and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ticipate and address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discip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ing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804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Self-directed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917720" y="5138640"/>
            <a:ext cx="5494320" cy="12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emb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603520" y="3849840"/>
            <a:ext cx="4808520" cy="1293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032280" y="2563920"/>
            <a:ext cx="4379760" cy="12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403880" y="5288040"/>
            <a:ext cx="3022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cess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erformance meas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Estimating &amp; planning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Quality management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489560" y="3986280"/>
            <a:ext cx="2832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Role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ailored team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tailed balanced pla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241600" y="2637000"/>
            <a:ext cx="212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communic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coordin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ject 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Risk 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 flipH="1" rot="5400000">
            <a:off x="6037920" y="3328920"/>
            <a:ext cx="4098960" cy="857160"/>
          </a:xfrm>
          <a:prstGeom prst="rightArrow">
            <a:avLst>
              <a:gd name="adj1" fmla="val 54389"/>
              <a:gd name="adj2" fmla="val 40293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i="1" lang="en-US" sz="1800" spc="-1" strike="noStrike">
                <a:solidFill>
                  <a:srgbClr val="39536b"/>
                </a:solidFill>
                <a:latin typeface="Arial Black"/>
              </a:rPr>
              <a:t>Team Performa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 rot="16200000">
            <a:off x="1181520" y="5588640"/>
            <a:ext cx="7102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 rot="16200000">
            <a:off x="1959840" y="3452040"/>
            <a:ext cx="696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546360" y="1708200"/>
            <a:ext cx="3865680" cy="87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eni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641200" y="1708200"/>
            <a:ext cx="1721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suppo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gram visibil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931680" y="1692360"/>
            <a:ext cx="20592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apitalizing o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eam potential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s management’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responsibil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1440" y="692280"/>
            <a:ext cx="8226360" cy="8553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Direc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28800" y="1655640"/>
            <a:ext cx="7640640" cy="45957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are very respons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will try to do whatever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guidance, they will do what they think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t may not be what you really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stress schedule above everything else, teams wi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ive to meet aggressive d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change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more time than following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ing the job the right way is, in the end, always the fastest and cheapest w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ational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 is the most effective way to manage TSP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 has four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ting aggressive but realistic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ting the fa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facts and data to make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team performance to anticipate and address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ggressive but Realistic Go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520" y="1722600"/>
            <a:ext cx="7305480" cy="46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one knows what an aggressive goal is, but what is a realistic goa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alistic goal is one that the team members see how to me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have made a plan to meet the go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willing to commit to thi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nsure that the goal is realistic, probe the team’s plan to ensure that i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detailed and comple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based on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s the key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gotiating Realistic Schedu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eams say that they cannot meet a date, that date is  unrealist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insist that the team meet that date, there is little if any chance that the team will do s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rrational management has several consequen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cannot make believabl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do not believe the plans that they ha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not motivated to meet management’s d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ir jobs take longer than they would with a realistic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tting the Fa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provides many kinds of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ull assessment of project status must include schedule and quality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ask hour and earned value (EV) measures, teams can precisely determine schedule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can also estimate when they will likely finish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1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21Z</dcterms:modified>
  <cp:revision>14</cp:revision>
  <dc:subject>24 July 2001 / 3:30pm</dc:subject>
  <dc:title>PowerPoint Presentation</dc:title>
</cp:coreProperties>
</file>